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AA1FF-4AAD-448E-B54F-8CEEC0203F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96797-C5E2-489F-B69B-D4FD2AEEAD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6115C-199C-43F4-912E-7D42B28944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829-FE57-4C2C-998B-071341D8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16E-C562-47FB-96AE-6171A314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6B4-F781-40A4-AF54-819C2F66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93B-8779-4400-8686-925A3684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048-1519-4ED5-916E-DED4BBB9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259-1AEC-44B3-9CAD-BA321888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1B1-A774-44D2-9C23-7302F444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76F-35CB-4CB6-9323-A369B3B2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84C-97C5-4435-8361-36B76984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11B-0EF2-4F40-8254-8DA9269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B9F-4035-40E6-9C61-CDC0A96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15C4-E832-456B-BF40-29E03C1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D0334-B1AB-4D5F-A21D-39672B4461F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7" descr="https://timgsa.baidu.com/timg?image&amp;quality=80&amp;size=b9999_10000&amp;sec=1494393300473&amp;di=3a51e8ce43d617a53244dbcaa0412dc3&amp;imgtype=0&amp;src=http%3A%2F%2Fimg.pconline.com.cn%2Fimages%2Fupload%2Fupc%2Ftx%2Fphotoblog%2F1403%2F25%2Fc0%2F32425079_32425079_1395682983921.jpg"/>
          <p:cNvPicPr/>
          <p:nvPr/>
        </p:nvPicPr>
        <p:blipFill>
          <a:blip r:embed="rId1"/>
          <a:stretch/>
        </p:blipFill>
        <p:spPr>
          <a:xfrm>
            <a:off x="2127240" y="1841400"/>
            <a:ext cx="4986360" cy="332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13336"/>
          <p:cNvGrpSpPr/>
          <p:nvPr/>
        </p:nvGrpSpPr>
        <p:grpSpPr>
          <a:xfrm>
            <a:off x="2443320" y="2243160"/>
            <a:ext cx="4257360" cy="2468520"/>
            <a:chOff x="2443320" y="2243160"/>
            <a:chExt cx="4257360" cy="2468520"/>
          </a:xfrm>
        </p:grpSpPr>
        <p:sp>
          <p:nvSpPr>
            <p:cNvPr id="52" name="矩形 13324"/>
            <p:cNvSpPr/>
            <p:nvPr/>
          </p:nvSpPr>
          <p:spPr>
            <a:xfrm>
              <a:off x="2455920" y="2243160"/>
              <a:ext cx="4244760" cy="2468520"/>
            </a:xfrm>
            <a:prstGeom prst="rect">
              <a:avLst/>
            </a:prstGeom>
            <a:solidFill>
              <a:srgbClr val="ffffff">
                <a:alpha val="69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矩形 47"/>
            <p:cNvSpPr/>
            <p:nvPr/>
          </p:nvSpPr>
          <p:spPr>
            <a:xfrm>
              <a:off x="2443320" y="3041640"/>
              <a:ext cx="42573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北陂杏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[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宋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]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王安石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矩形 1"/>
          <p:cNvSpPr/>
          <p:nvPr/>
        </p:nvSpPr>
        <p:spPr>
          <a:xfrm>
            <a:off x="5501520" y="236376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第三课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组合 4"/>
          <p:cNvGrpSpPr/>
          <p:nvPr/>
        </p:nvGrpSpPr>
        <p:grpSpPr>
          <a:xfrm>
            <a:off x="1792440" y="5292720"/>
            <a:ext cx="5576760" cy="561960"/>
            <a:chOff x="1792440" y="5292720"/>
            <a:chExt cx="5576760" cy="561960"/>
          </a:xfrm>
        </p:grpSpPr>
        <p:pic>
          <p:nvPicPr>
            <p:cNvPr id="56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792440" y="5292720"/>
              <a:ext cx="1401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3170160" y="5292720"/>
              <a:ext cx="13957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5973480" y="5292720"/>
              <a:ext cx="13957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4572000" y="5292720"/>
              <a:ext cx="13957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流程图: 摘录 25"/>
            <p:cNvSpPr/>
            <p:nvPr/>
          </p:nvSpPr>
          <p:spPr>
            <a:xfrm rot="5400000">
              <a:off x="3108960" y="5462280"/>
              <a:ext cx="126720" cy="1630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流程图: 摘录 40"/>
            <p:cNvSpPr/>
            <p:nvPr/>
          </p:nvSpPr>
          <p:spPr>
            <a:xfrm rot="5400000">
              <a:off x="4499280" y="5462280"/>
              <a:ext cx="126720" cy="1630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流程图: 摘录 27"/>
            <p:cNvSpPr/>
            <p:nvPr/>
          </p:nvSpPr>
          <p:spPr>
            <a:xfrm rot="5400000">
              <a:off x="5902920" y="5460480"/>
              <a:ext cx="125280" cy="1879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 Box 2"/>
          <p:cNvSpPr/>
          <p:nvPr/>
        </p:nvSpPr>
        <p:spPr>
          <a:xfrm>
            <a:off x="2792520" y="679320"/>
            <a:ext cx="35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古诗三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5"/>
          <p:cNvGrpSpPr/>
          <p:nvPr/>
        </p:nvGrpSpPr>
        <p:grpSpPr>
          <a:xfrm>
            <a:off x="2384280" y="5986440"/>
            <a:ext cx="4348440" cy="579600"/>
            <a:chOff x="2384280" y="5986440"/>
            <a:chExt cx="4348440" cy="579600"/>
          </a:xfrm>
        </p:grpSpPr>
        <p:pic>
          <p:nvPicPr>
            <p:cNvPr id="65" name="任意多边形 19" descr=""/>
            <p:cNvPicPr/>
            <p:nvPr/>
          </p:nvPicPr>
          <p:blipFill>
            <a:blip r:embed="rId8"/>
            <a:stretch/>
          </p:blipFill>
          <p:spPr>
            <a:xfrm>
              <a:off x="5329440" y="6002640"/>
              <a:ext cx="1403280" cy="5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任意多边形 24" descr=""/>
            <p:cNvPicPr/>
            <p:nvPr/>
          </p:nvPicPr>
          <p:blipFill>
            <a:blip r:embed="rId9"/>
            <a:stretch/>
          </p:blipFill>
          <p:spPr>
            <a:xfrm>
              <a:off x="2384280" y="5986440"/>
              <a:ext cx="1415520" cy="5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任意多边形 30" descr=""/>
            <p:cNvPicPr/>
            <p:nvPr/>
          </p:nvPicPr>
          <p:blipFill>
            <a:blip r:embed="rId10"/>
            <a:stretch/>
          </p:blipFill>
          <p:spPr>
            <a:xfrm>
              <a:off x="3907800" y="5986440"/>
              <a:ext cx="1421280" cy="5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流程图: 摘录 31"/>
            <p:cNvSpPr/>
            <p:nvPr/>
          </p:nvSpPr>
          <p:spPr>
            <a:xfrm rot="5400000">
              <a:off x="5277960" y="6138000"/>
              <a:ext cx="167760" cy="2077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流程图: 摘录 28"/>
            <p:cNvSpPr/>
            <p:nvPr/>
          </p:nvSpPr>
          <p:spPr>
            <a:xfrm rot="5400000">
              <a:off x="3814560" y="6138000"/>
              <a:ext cx="167760" cy="2077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1231920" y="1882800"/>
            <a:ext cx="693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纵被春风吹作雪，绝胜南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碾成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131840" y="3340080"/>
            <a:ext cx="681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即使被无情的春风吹落，飘飘似雪，也胜过那南边小路旁的花，落了还被车马碾作灰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任意多边形 4"/>
          <p:cNvSpPr/>
          <p:nvPr/>
        </p:nvSpPr>
        <p:spPr>
          <a:xfrm>
            <a:off x="4867200" y="2738520"/>
            <a:ext cx="2370240" cy="66348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陌：这里指小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18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1"/>
          <p:cNvSpPr/>
          <p:nvPr/>
        </p:nvSpPr>
        <p:spPr>
          <a:xfrm>
            <a:off x="1258920" y="2340000"/>
            <a:ext cx="70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首绝句写于王安石贬居江宁之后，是他晚年心境的写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、二句写景状物，描绘杏花临水照影之娇媚。次句从花与影两个方面写杏花的绰约风姿。三四句议论抒情，褒扬北陂杏花品性之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988920" y="172872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陂春水绕花身，花影妖娆各占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4" name="矩形 1"/>
          <p:cNvSpPr/>
          <p:nvPr/>
        </p:nvSpPr>
        <p:spPr>
          <a:xfrm>
            <a:off x="866880" y="2568600"/>
            <a:ext cx="75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首句点明杏花所处的地理位置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绕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字用得精巧，既写出陂水曲折蜿蜒之流势，又写出水花之相依相亲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妖娆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二字用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Calibri"/>
              </a:rPr>
              <a:t>拟人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手法展现了杏花争奇斗艳的照人光彩。一个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各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字，表明在诗人眼中，花与影一样的美艳、多情，一样令人流连忘返、沉迷陶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1116000" y="1382760"/>
            <a:ext cx="7819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纵被春风吹作雪，绝胜南陌碾成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954000" y="2825640"/>
            <a:ext cx="749628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这两句</a:t>
            </a:r>
            <a:r>
              <a:rPr b="1" lang="zh-CN" sz="2100" spc="-1" strike="noStrike" u="sng">
                <a:solidFill>
                  <a:srgbClr val="ff33cc"/>
                </a:solidFill>
                <a:uFillTx/>
                <a:latin typeface="宋体"/>
              </a:rPr>
              <a:t>对偶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精当，托物言志，耐人寻味。“春风吹作雪”，生动地描绘出风吹杏树、落英缤纷，似漫天飞雪而随波逐流的凄美景象。</a:t>
            </a:r>
            <a:r>
              <a:rPr b="1" lang="zh-CN" sz="2100" spc="-1" strike="noStrike" u="sng">
                <a:solidFill>
                  <a:srgbClr val="ff33cc"/>
                </a:solidFill>
                <a:uFillTx/>
                <a:latin typeface="宋体"/>
              </a:rPr>
              <a:t>比喻</a:t>
            </a:r>
            <a:r>
              <a:rPr b="1" lang="zh-CN" sz="2100" spc="-1" strike="noStrike">
                <a:solidFill>
                  <a:srgbClr val="ff0000"/>
                </a:solidFill>
                <a:latin typeface="宋体"/>
              </a:rPr>
              <a:t>生动，令人浮想联翩。即便是春风轻拂，娇媚的花儿也不堪吹折，它凋谢了，零落了，这本是让人黯然神伤的。但诗人却偏说它胜过南陌杏花，矜持与自足之意溢于言表，掷地有声地表明自己不与权贵同流合污的政治立场与人生操守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4"/>
          <p:cNvGrpSpPr/>
          <p:nvPr/>
        </p:nvGrpSpPr>
        <p:grpSpPr>
          <a:xfrm>
            <a:off x="984240" y="2108160"/>
            <a:ext cx="7683480" cy="558720"/>
            <a:chOff x="984240" y="2108160"/>
            <a:chExt cx="7683480" cy="558720"/>
          </a:xfrm>
        </p:grpSpPr>
        <p:sp>
          <p:nvSpPr>
            <p:cNvPr id="128" name="直接连接符 5"/>
            <p:cNvSpPr/>
            <p:nvPr/>
          </p:nvSpPr>
          <p:spPr>
            <a:xfrm>
              <a:off x="984240" y="2666880"/>
              <a:ext cx="734076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任意多边形 6"/>
            <p:cNvSpPr/>
            <p:nvPr/>
          </p:nvSpPr>
          <p:spPr>
            <a:xfrm>
              <a:off x="984240" y="210816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：这两句仅仅是在写杏花吗？还有什么含义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内容占位符 2"/>
          <p:cNvSpPr/>
          <p:nvPr/>
        </p:nvSpPr>
        <p:spPr>
          <a:xfrm>
            <a:off x="1036800" y="2666880"/>
            <a:ext cx="733392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描写了什么植物？表达了诗人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北陂杏花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，“陂”是指池边或池中小岛，“北陂杏花”是指傍水的杏花，点明了杏花的生长环境。三首诗的题目都精炼简洁地点明了所写对象的特点，暗示了诗人要表达的情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内容占位符 2"/>
          <p:cNvSpPr/>
          <p:nvPr/>
        </p:nvSpPr>
        <p:spPr>
          <a:xfrm>
            <a:off x="587520" y="1971720"/>
            <a:ext cx="2203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内容占位符 2"/>
          <p:cNvSpPr/>
          <p:nvPr/>
        </p:nvSpPr>
        <p:spPr>
          <a:xfrm>
            <a:off x="754200" y="2155680"/>
            <a:ext cx="735012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古诗，说说这首诗的题目突出了植物的什么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北陂杏花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，“陂”是指池边或池中小岛，“北陂杏花”是指傍水的杏花，点明了杏花的生长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内容占位符 2"/>
          <p:cNvSpPr/>
          <p:nvPr/>
        </p:nvSpPr>
        <p:spPr>
          <a:xfrm>
            <a:off x="635040" y="144936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内容占位符 2"/>
          <p:cNvSpPr/>
          <p:nvPr/>
        </p:nvSpPr>
        <p:spPr>
          <a:xfrm>
            <a:off x="662040" y="1986120"/>
            <a:ext cx="779292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中描写的景物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北陂杏花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中的杏花远离南陌，傍水而开，却也妖娆多姿，让人流连忘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内容占位符 2"/>
          <p:cNvSpPr/>
          <p:nvPr/>
        </p:nvSpPr>
        <p:spPr>
          <a:xfrm>
            <a:off x="531720" y="1770120"/>
            <a:ext cx="7902720" cy="31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人仅仅是在写“杏花”的美丽吗？这在写法上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首诗表面都是在写植物，其实寄托着作者的情感，或咏叹、或寄情、或言志，以此表达自己的闲情雅致和高洁的人生操守。这是托物言志、寄情于景的写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内容占位符 2"/>
          <p:cNvSpPr/>
          <p:nvPr/>
        </p:nvSpPr>
        <p:spPr>
          <a:xfrm>
            <a:off x="563400" y="2179800"/>
            <a:ext cx="790272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从诗中读出了诗人怎样的心声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北陂杏花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，可以感受到诗人傲视权贵、不愿与他人同流合污的政治立场与人生操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6765840" y="3102120"/>
            <a:ext cx="1460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杏花别具一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诗人独具气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1001160" y="2360160"/>
            <a:ext cx="109440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北陂杏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右大括号 8"/>
          <p:cNvSpPr/>
          <p:nvPr/>
        </p:nvSpPr>
        <p:spPr>
          <a:xfrm rot="10800000">
            <a:off x="1979280" y="2959200"/>
            <a:ext cx="189000" cy="1612800"/>
          </a:xfrm>
          <a:custGeom>
            <a:avLst/>
            <a:gdLst>
              <a:gd name="textAreaLeft" fmla="*/ 0 w 189000"/>
              <a:gd name="textAreaRight" fmla="*/ 68040 w 189000"/>
              <a:gd name="textAreaTop" fmla="*/ 4680 h 1612800"/>
              <a:gd name="textAreaBottom" fmla="*/ 1608120 h 161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右大括号 9"/>
          <p:cNvSpPr/>
          <p:nvPr/>
        </p:nvSpPr>
        <p:spPr>
          <a:xfrm flipH="1" rot="10800000">
            <a:off x="6085440" y="2436840"/>
            <a:ext cx="282600" cy="2666880"/>
          </a:xfrm>
          <a:custGeom>
            <a:avLst/>
            <a:gdLst>
              <a:gd name="textAreaLeft" fmla="*/ 0 w 282600"/>
              <a:gd name="textAreaRight" fmla="*/ 101880 w 282600"/>
              <a:gd name="textAreaTop" fmla="*/ 7200 h 2666880"/>
              <a:gd name="textAreaBottom" fmla="*/ 26596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16200" y="10800"/>
                  <a:pt x="21600" y="10800"/>
                </a:cubicBezTo>
                <a:cubicBezTo>
                  <a:pt x="162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3" name="圆角矩形 12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矩形 2"/>
          <p:cNvSpPr/>
          <p:nvPr/>
        </p:nvSpPr>
        <p:spPr>
          <a:xfrm>
            <a:off x="3651120" y="2343240"/>
            <a:ext cx="32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陂春水绕花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花影妖娆各占春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2168640" y="2693880"/>
            <a:ext cx="14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状物写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3666960" y="4016520"/>
            <a:ext cx="325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纵被春风吹作雪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绝胜南陌碾成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2168640" y="4246560"/>
            <a:ext cx="14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借物抒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右大括号 19"/>
          <p:cNvSpPr/>
          <p:nvPr/>
        </p:nvSpPr>
        <p:spPr>
          <a:xfrm rot="10800000">
            <a:off x="3536640" y="2584080"/>
            <a:ext cx="189000" cy="909720"/>
          </a:xfrm>
          <a:custGeom>
            <a:avLst/>
            <a:gdLst>
              <a:gd name="textAreaLeft" fmla="*/ 0 w 189000"/>
              <a:gd name="textAreaRight" fmla="*/ 68040 w 189000"/>
              <a:gd name="textAreaTop" fmla="*/ 4680 h 909720"/>
              <a:gd name="textAreaBottom" fmla="*/ 905040 h 9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7"/>
                  <a:pt x="10800" y="374"/>
                </a:cubicBezTo>
                <a:lnTo>
                  <a:pt x="10800" y="10426"/>
                </a:lnTo>
                <a:cubicBezTo>
                  <a:pt x="10800" y="10613"/>
                  <a:pt x="16200" y="10800"/>
                  <a:pt x="21600" y="10800"/>
                </a:cubicBezTo>
                <a:cubicBezTo>
                  <a:pt x="16200" y="10800"/>
                  <a:pt x="10800" y="10987"/>
                  <a:pt x="10800" y="11174"/>
                </a:cubicBezTo>
                <a:lnTo>
                  <a:pt x="10800" y="21226"/>
                </a:lnTo>
                <a:cubicBezTo>
                  <a:pt x="10800" y="2141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右大括号 20"/>
          <p:cNvSpPr/>
          <p:nvPr/>
        </p:nvSpPr>
        <p:spPr>
          <a:xfrm rot="10800000">
            <a:off x="3533400" y="4177800"/>
            <a:ext cx="189000" cy="909720"/>
          </a:xfrm>
          <a:custGeom>
            <a:avLst/>
            <a:gdLst>
              <a:gd name="textAreaLeft" fmla="*/ 0 w 189000"/>
              <a:gd name="textAreaRight" fmla="*/ 68040 w 189000"/>
              <a:gd name="textAreaTop" fmla="*/ 4680 h 909720"/>
              <a:gd name="textAreaBottom" fmla="*/ 905040 h 9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7"/>
                  <a:pt x="10800" y="374"/>
                </a:cubicBezTo>
                <a:lnTo>
                  <a:pt x="10800" y="10426"/>
                </a:lnTo>
                <a:cubicBezTo>
                  <a:pt x="10800" y="10613"/>
                  <a:pt x="16200" y="10800"/>
                  <a:pt x="21600" y="10800"/>
                </a:cubicBezTo>
                <a:cubicBezTo>
                  <a:pt x="16200" y="10800"/>
                  <a:pt x="10800" y="10987"/>
                  <a:pt x="10800" y="11174"/>
                </a:cubicBezTo>
                <a:lnTo>
                  <a:pt x="10800" y="21226"/>
                </a:lnTo>
                <a:cubicBezTo>
                  <a:pt x="10800" y="21413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860400" y="1905120"/>
            <a:ext cx="74995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北陂杏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"/>
                <a:ea typeface="仿宋"/>
              </a:rPr>
              <a:t>（宋）王安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陂春水绕花身，花影妖娆各占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纵被春风吹作雪，绝胜南陌碾成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内容占位符 2"/>
          <p:cNvSpPr/>
          <p:nvPr/>
        </p:nvSpPr>
        <p:spPr>
          <a:xfrm>
            <a:off x="1133640" y="2422440"/>
            <a:ext cx="718344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陂杏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绘了杏花临水照影之娇媚姿态，褒扬北陂杏花品性之美，表现了诗人傲视权贵、不与他人同流合污的气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1"/>
          <p:cNvSpPr/>
          <p:nvPr/>
        </p:nvSpPr>
        <p:spPr>
          <a:xfrm>
            <a:off x="971640" y="240660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绝句由于篇幅短小，很忌一气直下，没有波折。这首诗句句写临水杏花，第二句承第一句；第三、四句承第二句，却宕开一层，以“纵被”领句，用“绝胜”作呼应，便使全诗跌宕有致，富于曲折变化。这样布局，有直写，有侧写，有描绘，有议论，诗人自己爱好高洁的品格也就贯注其中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3" name="图片 16" descr=""/>
          <p:cNvPicPr/>
          <p:nvPr/>
        </p:nvPicPr>
        <p:blipFill>
          <a:blip r:embed="rId2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4" name="矩形 1"/>
          <p:cNvSpPr/>
          <p:nvPr/>
        </p:nvSpPr>
        <p:spPr>
          <a:xfrm>
            <a:off x="1714680" y="2538360"/>
            <a:ext cx="580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墨  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王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家洗砚池边树，朵朵花开淡墨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不要人夸好颜色，只留清气满乾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3"/>
          <p:cNvSpPr/>
          <p:nvPr/>
        </p:nvSpPr>
        <p:spPr>
          <a:xfrm>
            <a:off x="1930320" y="2254320"/>
            <a:ext cx="50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李商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曾逐东风拂舞筵，乐游春苑断肠天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如何肯到清秋日，已带斜阳又带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1825560" y="2274840"/>
            <a:ext cx="549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杏  花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】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罗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暖气潜催次第春，梅花已谢杏花新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半开半落闲园里，何异荣枯世上人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1233360" y="2136600"/>
            <a:ext cx="6888240" cy="358488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>
            <a:off x="1233360" y="2620800"/>
            <a:ext cx="6888240" cy="1496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众芳摇落独暄妍，占尽风情向小园。疏影横斜水清浅，暗香浮动月黄昏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山园小梅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林逋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墙角数枝梅，凌寒独自开。遥知不是雪，为有暗香来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梅花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王安石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70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487880" y="209556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杏花对联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"/>
          <p:cNvSpPr/>
          <p:nvPr/>
        </p:nvSpPr>
        <p:spPr>
          <a:xfrm>
            <a:off x="1265400" y="261000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联：白马秋风塞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(sài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下联：杏花春雨江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76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矩形 1"/>
          <p:cNvSpPr/>
          <p:nvPr/>
        </p:nvSpPr>
        <p:spPr>
          <a:xfrm>
            <a:off x="1499040" y="3808440"/>
            <a:ext cx="12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折柳赠别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1276200" y="437040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古代人善用谐音表情感，“柳”与“留”、“丝”与“思”谐音，渐渐形成了折柳赠别的风俗，亲友离别，折柳以表达对离别者的不舍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7167"/>
          <p:cNvSpPr/>
          <p:nvPr/>
        </p:nvSpPr>
        <p:spPr>
          <a:xfrm>
            <a:off x="865080" y="234936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划掉加点字不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迥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ró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ǒng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蘸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zh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ā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妖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rá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rào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北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bē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ō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迸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f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fà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碾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niǎ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liǎn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2"/>
          <p:cNvSpPr/>
          <p:nvPr/>
        </p:nvSpPr>
        <p:spPr>
          <a:xfrm>
            <a:off x="1363680" y="409896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8"/>
          <p:cNvSpPr/>
          <p:nvPr/>
        </p:nvSpPr>
        <p:spPr>
          <a:xfrm>
            <a:off x="4616280" y="35496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9"/>
          <p:cNvSpPr/>
          <p:nvPr/>
        </p:nvSpPr>
        <p:spPr>
          <a:xfrm>
            <a:off x="1365120" y="353232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20"/>
          <p:cNvSpPr/>
          <p:nvPr/>
        </p:nvSpPr>
        <p:spPr>
          <a:xfrm>
            <a:off x="4286160" y="299412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1"/>
          <p:cNvSpPr/>
          <p:nvPr/>
        </p:nvSpPr>
        <p:spPr>
          <a:xfrm>
            <a:off x="4294080" y="41004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2"/>
          <p:cNvSpPr/>
          <p:nvPr/>
        </p:nvSpPr>
        <p:spPr>
          <a:xfrm>
            <a:off x="1041120" y="29844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3200040" y="35701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5"/>
          <p:cNvSpPr/>
          <p:nvPr/>
        </p:nvSpPr>
        <p:spPr>
          <a:xfrm>
            <a:off x="6378840" y="359100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6"/>
          <p:cNvSpPr/>
          <p:nvPr/>
        </p:nvSpPr>
        <p:spPr>
          <a:xfrm>
            <a:off x="2988720" y="407340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7"/>
          <p:cNvSpPr/>
          <p:nvPr/>
        </p:nvSpPr>
        <p:spPr>
          <a:xfrm>
            <a:off x="6741000" y="301140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8"/>
          <p:cNvSpPr/>
          <p:nvPr/>
        </p:nvSpPr>
        <p:spPr>
          <a:xfrm>
            <a:off x="6752880" y="410040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9"/>
          <p:cNvSpPr/>
          <p:nvPr/>
        </p:nvSpPr>
        <p:spPr>
          <a:xfrm>
            <a:off x="2516400" y="300204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3"/>
          <p:cNvSpPr/>
          <p:nvPr/>
        </p:nvSpPr>
        <p:spPr>
          <a:xfrm>
            <a:off x="971640" y="177336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给句中加点字选择正确的解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疑是经冬雪未销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怀疑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不能解决的；不能确定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绝胜南陌碾成尘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断绝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净尽，穷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极；最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完全；一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976320" y="349884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987480" y="2392200"/>
            <a:ext cx="9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28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"/>
          <p:cNvSpPr/>
          <p:nvPr/>
        </p:nvSpPr>
        <p:spPr>
          <a:xfrm>
            <a:off x="4277160" y="2430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"/>
          <p:cNvSpPr/>
          <p:nvPr/>
        </p:nvSpPr>
        <p:spPr>
          <a:xfrm>
            <a:off x="4273560" y="35211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3"/>
          <p:cNvSpPr/>
          <p:nvPr/>
        </p:nvSpPr>
        <p:spPr>
          <a:xfrm>
            <a:off x="900000" y="1935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根据理解写诗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诗中，哪两句写出了一树寒梅傍桥开放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新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诗中，点明水中的柳影使柳条变长的诗句是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2131920" y="310824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树寒梅白玉条，迥临村路傍溪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8"/>
          <p:cNvSpPr/>
          <p:nvPr/>
        </p:nvSpPr>
        <p:spPr>
          <a:xfrm>
            <a:off x="2682720" y="4222800"/>
            <a:ext cx="49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未必柳条能蘸水，水中柳影引他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830160" y="2097000"/>
            <a:ext cx="758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写“陂”“娆”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在理解的基础上能背诵，会默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杏花的高贵品格中受到人生观、价值观的感染和熏陶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示 3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3090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3"/>
          <p:cNvSpPr/>
          <p:nvPr/>
        </p:nvSpPr>
        <p:spPr>
          <a:xfrm>
            <a:off x="826920" y="1700280"/>
            <a:ext cx="756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写出下列诗句的大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陂春水绕花身，花影妖娆各占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柳条百尺拂银塘，且莫深青只浅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"/>
          <p:cNvSpPr/>
          <p:nvPr/>
        </p:nvSpPr>
        <p:spPr>
          <a:xfrm>
            <a:off x="1333440" y="2798640"/>
            <a:ext cx="70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池春水环绕着杏花，岸上的花，水中的花影都是那么娇艳美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1271520" y="441972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百尺长的柳条轻拂着闪着银光的水塘，柳色切莫是深青的，只留下浅黄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3"/>
          <p:cNvSpPr/>
          <p:nvPr/>
        </p:nvSpPr>
        <p:spPr>
          <a:xfrm>
            <a:off x="674640" y="1916280"/>
            <a:ext cx="756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你还知道哪些描写植物的古诗？选一首写在下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8"/>
          <p:cNvSpPr/>
          <p:nvPr/>
        </p:nvSpPr>
        <p:spPr>
          <a:xfrm>
            <a:off x="1231920" y="2448000"/>
            <a:ext cx="630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菊花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元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秋丛绕舍似陶家　  遍绕篱边日渐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不是花中偏爱菊　  此花开尽更无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3355920" y="2120760"/>
            <a:ext cx="518976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王安石：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1021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086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，字介甫，号半山。北宋著名思想家、政治家、文学家、改革家，名列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“唐宋八大家”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王临川集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临川集拾遗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等存世。诗作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元日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梅花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泊船瓜洲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书湖阴先生壁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登飞来峰</a:t>
            </a:r>
            <a:r>
              <a:rPr b="1" lang="en-US" sz="23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等最为著名。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5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6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646200" y="2255760"/>
            <a:ext cx="280980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任意多边形 8"/>
          <p:cNvSpPr/>
          <p:nvPr/>
        </p:nvSpPr>
        <p:spPr>
          <a:xfrm>
            <a:off x="2836800" y="2932200"/>
            <a:ext cx="974880" cy="11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2753280" y="261792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3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8" name="任意多边形 10"/>
          <p:cNvSpPr/>
          <p:nvPr/>
        </p:nvSpPr>
        <p:spPr>
          <a:xfrm>
            <a:off x="4738680" y="2927520"/>
            <a:ext cx="974880" cy="11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4615200" y="261288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996920" y="3405240"/>
            <a:ext cx="6575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妖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娆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春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2404440" y="298440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á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4736880" y="300024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bē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12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1504800" y="2255760"/>
            <a:ext cx="262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溪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且莫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妖娆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玉条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9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1"/>
          <p:cNvSpPr/>
          <p:nvPr/>
        </p:nvSpPr>
        <p:spPr>
          <a:xfrm>
            <a:off x="2538360" y="2271600"/>
            <a:ext cx="595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池。在诗中指池边或池中的小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小溪上的木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切莫，不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娇艳美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开满梅花的树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内容占位符 2"/>
          <p:cNvSpPr/>
          <p:nvPr/>
        </p:nvSpPr>
        <p:spPr>
          <a:xfrm>
            <a:off x="920880" y="2055960"/>
            <a:ext cx="754848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这首诗描写了什么植物？表达了诗人怎样的思想感情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读古诗，说说这首诗的题目突出了植物的什么特点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这首诗中描写的景物有什么特点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3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诗人仅仅是在写“杏花”的美丽吗？这在写法上有什么特点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4.</a:t>
            </a:r>
            <a:r>
              <a:rPr b="1" lang="zh-CN" sz="2100" spc="-1" strike="noStrike">
                <a:solidFill>
                  <a:srgbClr val="ff0000"/>
                </a:solidFill>
                <a:latin typeface="黑体"/>
                <a:ea typeface="黑体"/>
              </a:rPr>
              <a:t>四悟：</a:t>
            </a:r>
            <a:r>
              <a:rPr b="1" lang="zh-CN" sz="2100" spc="-1" strike="noStrike">
                <a:solidFill>
                  <a:srgbClr val="000000"/>
                </a:solidFill>
                <a:latin typeface="宋体"/>
                <a:ea typeface="Adobe 黑体 Std R"/>
              </a:rPr>
              <a:t>你从诗中读出了诗人怎样的心声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05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6"/>
          <p:cNvSpPr/>
          <p:nvPr/>
        </p:nvSpPr>
        <p:spPr>
          <a:xfrm>
            <a:off x="1289160" y="2308320"/>
            <a:ext cx="710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陂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春水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绕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花身，花影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妖娆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各占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任意多边形 11"/>
          <p:cNvSpPr/>
          <p:nvPr/>
        </p:nvSpPr>
        <p:spPr>
          <a:xfrm>
            <a:off x="911160" y="3005280"/>
            <a:ext cx="2154240" cy="9698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陂：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bēi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，池。这里指池边或池中小岛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1116000" y="4118040"/>
            <a:ext cx="6977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满塘的春水环绕着杏树，岸上的花和水中的花影，都是那么的鲜艳动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任意多边形 16"/>
          <p:cNvSpPr/>
          <p:nvPr/>
        </p:nvSpPr>
        <p:spPr>
          <a:xfrm>
            <a:off x="5718240" y="3127320"/>
            <a:ext cx="2154240" cy="80172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妖娆：娇艳美好。娆，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ráo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任意多边形 12"/>
          <p:cNvSpPr/>
          <p:nvPr/>
        </p:nvSpPr>
        <p:spPr>
          <a:xfrm>
            <a:off x="3335400" y="3159000"/>
            <a:ext cx="2154240" cy="662040"/>
          </a:xfrm>
          <a:prstGeom prst="pie">
            <a:avLst/>
          </a:prstGeom>
          <a:solidFill>
            <a:srgbClr val="385d8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720" rIns="90720" tIns="90720" bIns="90720" anchor="ctr">
            <a:noAutofit/>
          </a:bodyPr>
          <a:p>
            <a:pPr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绕：环绕。对花的护卫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335400" y="290520"/>
            <a:ext cx="2473200" cy="649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9T06:59:01Z</dcterms:modified>
  <cp:revision>4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